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73A7-60BE-4D49-8550-98CAA961E0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7675-EE86-4B9D-9E57-64A5A5EF8B1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C06D-380F-4E88-A772-BBFB57EE1A2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ECB7-ED22-4EB5-9BB5-535646971CB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51257-7180-4201-8F06-AE5F0B2294E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F08D-E305-4885-9766-58736CDCA0B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392F-8B3F-4903-A5A8-6ECA62402017}"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B492-2566-4EAF-A044-773387B6FF5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C030F-57E9-405A-AC92-7AE1BF1DF1A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3DAC2-A26F-46AD-A709-6731780ACC6B}"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483B8-AB40-4F24-AC6E-56C248E18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8C958-F967-4AC6-82B1-02E7E2FDF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835FB-1466-4374-B3DC-455F962CA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7B192-EB05-4E1C-8600-0A1485BA6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6DEE6-1B1A-458A-930D-7F8852EEB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829E2-FA7E-4078-9199-C82526B14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10B02-366A-4355-ACFD-3EA304F57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0A1E2-AE2F-4129-9F93-8A935D8C1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48671-0A8C-4D3B-AC3D-AFD7D5477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6F55-EAB8-4F06-A92A-D05FADD67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75236-6CB3-48FF-9B4B-CA6DADD5F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EC31E-A45F-4856-9FC7-2B68491C1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F409-BF07-473E-ABDC-80C601D2E4D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4-05-26T13:51:19Z</dcterms:modified>
  <cp:revision>26</cp:revision>
  <dc:subject/>
  <dc:title>Countries</dc:title>
</cp:coreProperties>
</file>